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D245-23E1-464C-AC25-57EBF9EE8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2658-E6E5-41C3-A035-8CBE785D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1D8A-AA28-4DB8-850F-7FD0B3C11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CC8C-4CEA-475E-9DB5-4CBFAD442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BDE6-BD2F-4389-B400-3B857B9F3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86ED-C9F2-47F0-9DA0-6665B0BA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3554-2C45-4A7F-A2E5-2BDB621F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76AE-3098-4C08-BF9D-12798646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EA0B-0ABA-4B32-8249-F9274EE4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F3AF-2559-4D9F-B0EB-E6037276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4181-535C-4800-A7E9-830AF506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AC4C-EF48-4037-8294-209FC634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0D94-5E5D-46E8-AB68-69D687A6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600E-3FD7-46EE-A72D-CC8DCC46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26B8-DF8F-4838-85C4-FE8A9B39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36DA-7CD9-4F7B-81C2-352ADC89A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074F-68C8-4930-A0CB-B7687628B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CAFF-74EE-43B2-8D2E-C36688A7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B5BC-6F4F-438F-8295-4DEFF72F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3DED-D15D-4F25-8289-4B8CDE10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3F86-B100-4FB1-9CCF-33B88A57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33D1-1B3F-4F63-8ECF-111EA638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7442-BCBF-41AB-82E9-FE294E27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9ADE-4DAE-4127-A75D-BB76B437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040C-C941-46C2-BEF7-22C61BBAAFC5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143A-C854-40EA-AA5A-5B7EF1E51576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est Taking Tip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reparing for the PSSA’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owerful </a:t>
            </a: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udents </a:t>
            </a: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howing </a:t>
            </a: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hievemen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ip #1 Preview the passage and questions.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First, run your eyes over the whole passage.  Read the title, the introduction (if there is one), and any headings or subheadings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Look for bold print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Look at any charts, graphs, photos or illustrations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Next, make a guess what the passage is going to be about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n, preview the questions prior to reading the passage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ip #2: Read the entire passage.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ad through each passage from beginning to end before answering any questions.  This will help you find the main idea - what the passage is mostly about.  You don’t have to memorize every detail as you go.  Just focus on getting the big picture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You may want to stop and go over a difficult idea to make sure you understand it.  That’s okay.  Just be careful not to get stuck.  Keep moving until you come to the end of the passage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75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ip #3: Read the questions and answer choices carefully.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ad each question slowly and carefully.  Make sure you understand what the question is asking.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on’t jump ahead to pick an answer before you’ve read all the answer choices.  The first choice may look good, but the last choice may look even better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ords such as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best, most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, and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in a test question are reminders to select the best answer among those given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75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ip #4: Answer every question, even if you have to guess.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f you aren’t sure of an answer, give it your best guess.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Before guessing, cross out any choices that seem wrong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if you are completely clueless?  A blind guess is better than no guess at all.  If you don’t answer a question, you can’t possibly get it right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75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ip #5: Base your answers on information from the passage.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 reading test measures how well you read.  It is not trying to figure out how much you already know about the topic of the passage.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lways remember to base your answers mainly on the information in the passag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75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ip #6: Relax, and have fun!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Just as astronauts train for a shuttle mission, you have been training for taking this test all year!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o on test day, sit back, relax, and have fun.  Celebrate the knowledge you have learned!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75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e Are…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end your time wisely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rk your best answ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lways do your bes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check your answer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hink positively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00"/>
                </a:solidFill>
                <a:latin typeface="Arial"/>
              </a:rPr>
              <a:t>                </a:t>
            </a:r>
            <a:r>
              <a:rPr b="1" lang="en-US" sz="4400" spc="-1" strike="noStrike">
                <a:solidFill>
                  <a:srgbClr val="330000"/>
                </a:solidFill>
                <a:latin typeface="Arial"/>
              </a:rPr>
              <a:t>Cookies!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638680" y="3276720"/>
            <a:ext cx="266724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00:40:13Z</dcterms:created>
  <dc:creator>West Shore  School District</dc:creator>
  <dc:description/>
  <dc:language>en-US</dc:language>
  <cp:lastModifiedBy>West Shore  School District</cp:lastModifiedBy>
  <dcterms:modified xsi:type="dcterms:W3CDTF">2010-03-29T01:39:05Z</dcterms:modified>
  <cp:revision>6</cp:revision>
  <dc:subject/>
  <dc:title>Test Taking Tips</dc:title>
</cp:coreProperties>
</file>